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66B-5F4E-45C9-9FC8-EC854B6C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260-8A69-47B3-AB2F-8DE6410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735-D197-46EB-B558-E6E6B06B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2B0-A1A1-463F-8CF3-3515A45F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8788-B922-4168-8F41-5250F4F7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6C2-F6DD-43D9-AC73-F2AEA27F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17B5-658D-4E11-A5C5-D7063AB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FC1-D7EA-45B8-AAEA-F07BD81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C253-3906-46A4-A42B-D914BBC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06E-5CB9-4CDD-BFE0-025ECE53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0135-D85B-4740-8324-25FEB99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66F-0D6B-4AAE-8868-48676080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3F05-73DA-48F6-BA22-51EE44D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994-AA73-4FF5-BC06-D10306B3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FF9D-1E40-406A-BC9D-20E50CD3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901B-243E-4284-B346-50D84E0F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925-75E1-45AE-BD7C-D46207D5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D1A4-DC42-4157-97A1-B2D4718E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66C8-43A7-4712-8B60-341923A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8723-6914-4C3D-8B41-5361E257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8B69-FA70-49B1-A251-93F38AD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8AEA-A871-43AD-B607-0DDCBA5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F93-C30E-488A-9E7F-D9B2BEA0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9349-A920-464C-8098-DC9B1F58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87D1-1198-4BD3-91E5-F102189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15CC-7C51-462A-B1B0-A291664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45E3-6029-4A46-B024-379FF26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7711-44D8-4161-8799-358344E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AF45-C1C2-4050-A3E8-F4BB5C41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B7BE-5A4C-4235-B52E-821D468A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6554-0F63-493A-8D88-9E6BFFB3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194F-0258-44E4-9B57-113018A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FD78-301A-407A-BC81-40747EF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7DB-A1E0-4D3A-A68A-B0208CF5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3714-9143-4978-BD82-69ACD41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4DE7-2F37-4804-BA69-9F5EA4BA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2933-9C20-4D12-B764-852C5F1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EA1D-32CE-475A-8A0C-A096BE7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240A-63F4-4DEA-B6BC-DD3C23D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7D6A-FEEF-422F-86CF-B70C59C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2390-DE83-4F1A-828A-C92764B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30A1-17E5-4AA3-B51A-E03EAB35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84F1-1967-4EDC-83A5-84D19378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245E-9B08-4E8A-AA64-F1A9E7FE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AD1-9CE9-48C4-B46D-C50FD15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2B61-745B-45BF-908D-303A7D3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FA11-A35B-4223-99B2-A1ED44A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28CE-A946-4BAD-9A65-69C64A8F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D84D-B94F-4EAE-9BC0-FB33DEA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CE97-084E-49DC-B0D9-93A2A2EA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E16D-F261-43F4-A569-9A1B9DC3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9E8A-E68B-46FA-B580-76DC64C7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B169-ED95-4B36-99C2-54A0B57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D65D-42C8-41AF-BF9A-BA29B3A6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4802-9600-4273-9103-16F9CAAC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B6F-B82F-4872-B2F1-985D2B29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3DD7-6C1F-4129-B9E9-957A26A6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4B60-D648-46C9-9E22-33EEB40F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DCB8-C8C2-4568-89E9-72ED0EB3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4E5A-053E-44E8-8429-B5CB9DC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9B54-2BE1-418B-B211-64BE492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8E57-9C92-4AE9-AD90-D8DC0FF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619B-D129-4D3D-A1DD-729EDCC0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AF19-F1AB-49CF-BDCA-C5A8904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8ED9-A1F2-468C-919A-7FCEDA2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1899-6EC7-4DDD-A141-0BA4D5C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B3C-5DE9-42AE-BCCA-AA1DFA7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73A4-E83D-4859-B645-DB45CD1A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2FC9-7F31-4119-8286-CC2486C1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40DB-2BCF-4E62-B7E2-2B48E4C1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33C1F-82F4-4967-AC31-BEAC86EA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3B68-3021-4B63-B3F9-C34818AA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1024-58C5-463C-96A6-4F29495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9807-0525-47B6-BF7E-AFDBAC3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8257-DA32-4632-AFFA-DD2EB62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52A0-1A9E-4555-901E-2A19E20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AB36-DE3E-4BE3-81FE-396BD73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13C-E3CF-4CF7-8073-1CFBD9B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6CE0-1522-4F6A-8E89-C554B56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26A2C-A645-4C07-84C3-D11E7D9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61DDB-B22E-4952-BFEA-3CA26DCD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16600-7CCB-4538-A463-1F0AAB79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087C-BD15-425B-9B2F-51FC76DC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824-F501-44A1-AB0A-7F2E212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45A-025B-4CE8-B739-BB8DC396EE4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B610-16FC-4DA3-A6D1-CAA14EB7AC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99AF-893F-4229-9F7E-51154F6326D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C0A-76E7-4150-B696-B9010FADEAB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A3C-28E3-4AE1-9A0B-47FC74E459F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FDD-F538-4618-ADE7-21F27405296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50C-B8DD-4A60-B359-B223BBE4DE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val 6"/>
          <p:cNvSpPr/>
          <p:nvPr/>
        </p:nvSpPr>
        <p:spPr>
          <a:xfrm>
            <a:off x="2286000" y="3808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As soon as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33520" y="266796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英语动词的时间大致可分为三段：过去时、现在时、将来时。假设有两件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就会出现三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现在时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现在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每一个大的时间段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时态要统一。比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去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肯定在过去时内。其它也是如此。至于在每个大时间段内，再根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件事的具体情况，具体对待。比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过去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同时发生，还是先后发生，不是即将发生，再分别选用完成时、进行时、将来时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533520" y="762120"/>
            <a:ext cx="8305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arranged the flowers in the vase as soon as I came back ho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回到家里，我就把花在花瓶里插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过去进行时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过去完成时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虚拟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shaking with fright as if he had seen a gh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吓得直哆嗦，就好像看见了鬼一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用一般现在时表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will post me the tickets/post the tickets to me as soon as they receive my cheq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收到我的支票后就立刻把票寄给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04920" y="609480"/>
            <a:ext cx="8534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s soon 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时间状语从句中，指未发生的动作。规律是：主句一般将来时，从句用一般现在时代替一般将来时。  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will tell him the news as soon as he comes b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指紧接着发生的两个短动作，主从句都用一般过去时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took out his English books as soon as he sat down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这两种情况 ，熟记就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宾语从句中，当主句为与过去时的时候，从句必须用与主句相对应的时态，所以为了与主句动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呼应，时间状语从句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look u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该对应为过去将来时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uld look u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u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4362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 .... that....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此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..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致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..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(that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引导的结果状语从句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so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的后面跟副词或形容词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例句：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老师说的太快了，以至于我听不清楚他的话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teacher speaks so fast that I can't catch th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rd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057400" y="6094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so…that…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380880" y="457200"/>
            <a:ext cx="837252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［比较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…that…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）引导结果状语从句，意为“因此，所以”，主句和从句间常用逗号分开，一般不与情态动词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hing more was heard of hi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 that people thought that he was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未再听到他的消息，以致人们认为他已死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）引导目的状语从句，意为“为了，以便”，通常从句中用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may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might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can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could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等情态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 left early so that we could catch the first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很早出发，以便能赶上第一班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533520" y="198108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____ her father died, the stepsist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de her do all the ch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She was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us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she had no time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a dress for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The mice knew that ___________ th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lped her make a dress, she would no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le to go to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___________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nce saw her, he fell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ve with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25520" y="609480"/>
            <a:ext cx="87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a. Fill in the blanks wit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, as soon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or so ...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067040" y="190512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515680" y="289548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4801680" y="38862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991080" y="533412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228600" y="11430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prince knew that _________ the girl’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ot could fit the shoe, it was not the right 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The new couple were ____ happy ______ th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n’t stop smiling when they got 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878000" y="12952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496760" y="27432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 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380880" y="1905120"/>
            <a:ext cx="845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nkey King is the main character from the famous Chinese sto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ourney to the W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He is wonderful because he______ (help) weak people. The Monkey King _____(have) a magic stick. He_____ (use) it to fight bad people. He can________ (make) the stick big or small. He can sometimes make the stick so small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59720" y="533520"/>
            <a:ext cx="75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b. Fill in the blanks with the corr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335560" y="32004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058840" y="441972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448640" y="50292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5030280" y="38098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228600" y="1143000"/>
            <a:ext cx="861048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 put it in his ear. As soon as he______ (s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d people, he thinks of ways to fight them. He can _______(turn) himself into different animals and objects. But unless he can hide his tail, he cannot make himself a human. Children all over the wor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(love) the Monkey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325920" y="129528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1067760" y="26668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10040" y="46483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4120" y="685800"/>
            <a:ext cx="82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c. Tell your partner about your favo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926360" y="2209680"/>
            <a:ext cx="584388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My favorite story i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It is interesting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1" descr="u=3493327505,357089727&amp;fm=0&amp;gp=0"/>
          <p:cNvPicPr/>
          <p:nvPr/>
        </p:nvPicPr>
        <p:blipFill>
          <a:blip r:embed="rId1"/>
          <a:stretch/>
        </p:blipFill>
        <p:spPr>
          <a:xfrm>
            <a:off x="380880" y="3657600"/>
            <a:ext cx="360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1676520" y="41148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ction A Grammar Foc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u=1094910371,795610753&amp;gp=2"/>
          <p:cNvPicPr/>
          <p:nvPr/>
        </p:nvPicPr>
        <p:blipFill>
          <a:blip r:embed="rId1"/>
          <a:stretch/>
        </p:blipFill>
        <p:spPr>
          <a:xfrm>
            <a:off x="6256440" y="4724280"/>
            <a:ext cx="2887560" cy="17956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228600" y="1066680"/>
            <a:ext cx="87138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努力学习，以便取得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e works hard _______ he can get good res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师写得很仔细，是为了让我们看得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teacher wrote carefully ________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ould see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太伤心了，以致说不出一个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e is _____________he can’t say a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妹妹身体太弱了，不能再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y sister is ____________ she can’t wal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124080" y="17524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106960" y="28195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676520" y="4572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sa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2362320" y="57913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weak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116720" y="423720"/>
            <a:ext cx="3389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…that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填空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04920" y="609480"/>
            <a:ext cx="8839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 按要求转换下列句型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 Jim did his homework last night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im ______ ____  his homework last night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 Did she study Japanese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作肯定回答）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, she _______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 They’d like tomatoes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改为一般疑问句）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 they _______ tomatoes 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 They watched TV last night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 they watch TV last night?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218960" y="198108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't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531360" y="3200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es             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5400" y="449568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uld        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610560" y="579132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80880" y="457200"/>
            <a:ext cx="838224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 用所给词的适当形式填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 Listen! She _____________(sing) ABC song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 They usually __________(go) shopping on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turday but they______ ______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t 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t yester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 We ________ (talk) about the problem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ast Satur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 I_______ (be) not here yesterday but 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 here, ________ you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 He 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e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s room last Sun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200760" y="990720"/>
            <a:ext cx="17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27708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038120" y="2209680"/>
            <a:ext cx="19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1752840" y="3276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296360" y="44956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220040" y="50292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429000" y="495288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1524240" y="556272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lea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831240" y="2743200"/>
            <a:ext cx="71038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unless, as soon as and so…tha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as many sentences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28600" y="2133720"/>
          <a:ext cx="8763120" cy="32130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6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ow does the story begi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at happened nex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y was Yu Gong trying to move the mountai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o is the Monkey K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can't the Monkey King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nce upon a time, there was a very old man 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348" name="Oval 10"/>
          <p:cNvSpPr/>
          <p:nvPr/>
        </p:nvSpPr>
        <p:spPr>
          <a:xfrm>
            <a:off x="2362320" y="609480"/>
            <a:ext cx="41148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Grammar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04920" y="990720"/>
          <a:ext cx="8610480" cy="46749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68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s soon as the man finished talking, Yu Gong said that his family could continue to move the mountains after he die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ecause they were so big that it took a long time to walk to the other sid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 is the main character in Journey to the Wes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e cannot turn himself into a person unless he can hide his tai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80880" y="1143000"/>
            <a:ext cx="806292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  <a:ea typeface="宋体"/>
              </a:rPr>
              <a:t>Conditional clauses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  <a:ea typeface="宋体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0" y="2081160"/>
            <a:ext cx="84247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含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复合句由两个分句组成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为连词，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条件状语从句，另一句为主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50920" y="2946240"/>
            <a:ext cx="820728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谈论的是某一个动作发生后势必会产生某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结果，那么主从句都用一般现在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95280" y="3954600"/>
            <a:ext cx="8353440" cy="1933200"/>
          </a:xfrm>
          <a:prstGeom prst="rect">
            <a:avLst/>
          </a:prstGeom>
          <a:solidFill>
            <a:srgbClr val="a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.g. If you boil water, it becomes s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drop a glass, it br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heat metal, it me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run, you sw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95280" y="59706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put wood into water, it __________ (floa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5334120" y="59436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l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2209680" y="1522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Unless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68360" y="765000"/>
            <a:ext cx="8351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谈论的是‘如果’某一个动作或事情发生后，很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将会产生某种结果，那么在复句中主句的动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一般将来时，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从句仍然是一般现在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85800" y="2438280"/>
            <a:ext cx="7848720" cy="2874960"/>
          </a:xfrm>
          <a:prstGeom prst="rect">
            <a:avLst/>
          </a:prstGeom>
          <a:solidFill>
            <a:srgbClr val="ec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.g. If it rains, we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 won’t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take a h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He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 will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get up school on time i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clock goes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 he arrives in Hong Kong, he 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will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cal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80880" y="54864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don’t start early, you ____________the beginning of the film (mi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4952880" y="54100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will 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7"/>
          <p:cNvSpPr/>
          <p:nvPr/>
        </p:nvSpPr>
        <p:spPr>
          <a:xfrm>
            <a:off x="457200" y="60948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●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若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条件句放句首，从句后面要加逗号，和主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隔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●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unless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</a:t>
            </a:r>
            <a:r>
              <a:rPr b="1" i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用法相似，相当于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…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380880" y="2209680"/>
            <a:ext cx="83534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.g. You will fail the exa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if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n’t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prepare for it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You will fai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xam unless you prepare fo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esn’t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look up the wor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dictionary, he won’t know its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e won’t know the word’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he looks it up in the diction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6836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She will miss the train unless she _______ up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5791320" y="5638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57200" y="609480"/>
            <a:ext cx="83059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一般情况下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if…not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，可以互换。用一般现在时代替将来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won't let you in unless you show me your pass = I won't let you in if you don't show me your pass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你不出示通行证，我就不让你进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如果主句描述的是情感或情绪活动方面的内容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if…not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结构不能换成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'll be quite glad if she doesn't come this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她今晚如果不来我很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Unless you take more care, you’ll have an accident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多加小心的话，你会出事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485280" y="838080"/>
            <a:ext cx="8190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My baby sister never cries unless she is hungr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那刚出生的妹妹除非饿了，否则她是从来不哭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 Don’t promise anything unless you’re 100 percent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ure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要作任何的许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非你有百分百的把握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 Unless bad weather stops me, I jog every 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非坏天气作梗，每天我都慢跑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Don't come in unless you will be invi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Don't come in unless you're invi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Unless he will come, we won't be able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Unless he comes, we won't be able to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8:13Z</dcterms:modified>
  <cp:revision>20</cp:revision>
  <dc:subject/>
  <dc:title>PowerPoint 演示文稿</dc:title>
</cp:coreProperties>
</file>